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854-FDFF-4261-A07B-BAAABDE5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A8E-35C4-4336-9A0A-8714EFD8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925-1E55-40E8-AB1A-B491FCE6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EBD-F852-4C44-A78D-B08D5637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3D1-B18A-46AB-9D71-2E8D531F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680-018B-47D2-B6A9-70E2DF57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4E5-9946-4B12-8731-CE4555D8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025-304C-460A-A595-2A32D909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E54-2336-4CB5-8631-977ADF6E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E62-2763-40B2-9A18-8047EC5F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18C-F911-49B4-9A78-D95A7216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B37-BE20-4B9B-B6D0-D45069B4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736-6F6E-4284-8CCB-A0D66308A81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643120" y="3357720"/>
            <a:ext cx="361476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143080" y="350028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Critter</cp:lastModifiedBy>
  <dcterms:modified xsi:type="dcterms:W3CDTF">2012-02-12T18:38:19Z</dcterms:modified>
  <cp:revision>2</cp:revision>
  <dc:subject/>
  <dc:title>CAPITOL 1  </dc:title>
</cp:coreProperties>
</file>